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FD6-A975-4353-A1DD-BA6101E8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A60-DDC4-411E-AB92-6D0FA0F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143-9DC8-44C4-A88F-EEF25278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2E0-F882-4DCE-AB50-12A2256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7D7-A8A1-4549-9198-9A384DE2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E72-CA30-4FA8-87AB-9456EE42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312-0DC0-463E-80AB-C1D882A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F4E-E815-43EF-AD95-FFFA268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09A-2368-4F65-9244-4D72C59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B52-9B4D-4773-9FAD-3F9BCDE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7C3-C66F-4126-85ED-4F7057F7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CE1-461A-453B-BADC-0BD9A03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0C73-FDB1-47F1-8BD5-618629BC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Ens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20040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3124080" cy="23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4800600"/>
            <a:ext cx="198108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62280" y="228600"/>
            <a:ext cx="1731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fort is the capital of Kentuc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267984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 and M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, 17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we stand, divided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ucky’s state bird is the Ca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1338120" cy="14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152280"/>
            <a:ext cx="12492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is the Golden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10516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67652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822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46:26Z</dcterms:created>
  <dc:creator>Mother of Divine Grace</dc:creator>
  <dc:description/>
  <dc:language>en-US</dc:language>
  <cp:lastModifiedBy>Mother of Divine Grace</cp:lastModifiedBy>
  <dcterms:modified xsi:type="dcterms:W3CDTF">2012-05-10T14:40:10Z</dcterms:modified>
  <cp:revision>2</cp:revision>
  <dc:subject/>
  <dc:title>Slide 1</dc:title>
</cp:coreProperties>
</file>